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583E-AE83-4959-9CE5-9721CFEECD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1161-AAE8-4418-B6CE-46BA572EF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B2EA-AF0E-48F0-8A7E-897270619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418-869B-42AF-ADB4-C39B44D0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A73-9093-4C31-B41E-B84E1B93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37C-0534-4B9C-B2FA-F7608F8F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D32-1320-4259-9651-8B22205B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28D-F3A7-4AE0-A52F-5DBF65EB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61A-2E49-4C65-A6E1-2927FF0D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897-2D0D-40EF-BE32-AF033CA4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5E7-D32E-4054-823B-0C40B740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430-54E9-4268-9598-106CAED3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B3F-3CC8-4B45-9741-FE00584D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1BC-7BB8-4ADC-BF5D-257D4703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9A0-9EB0-464A-81EA-FFA84B66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D924-6F4F-4500-A2C7-B5709FC18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" Target=""/><Relationship Id="rId42" Type="http://schemas.openxmlformats.org/officeDocument/2006/relationships/slide" Target=""/><Relationship Id="rId43" Type="http://schemas.openxmlformats.org/officeDocument/2006/relationships/slide" Target=""/><Relationship Id="rId44" Type="http://schemas.openxmlformats.org/officeDocument/2006/relationships/slideLayout" Target="../slideLayouts/slideLayout1.xml"/><Relationship Id="rId4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83808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stopping wants / desi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90720" y="15228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Buddhist princliples, how do people STOP suffer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336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ha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family ruled the first dynasty in the Huang Ho vall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609480" y="1295280"/>
            <a:ext cx="8153640" cy="4572000"/>
          </a:xfrm>
          <a:prstGeom prst="wedgeRectCallout">
            <a:avLst>
              <a:gd name="adj1" fmla="val -20055"/>
              <a:gd name="adj2" fmla="val 736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oism means The W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ually to happin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066680" y="1522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aoism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91440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you follow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ightfold Pa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90720" y="22860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MIDDL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was the first private teacher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Confucius jo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10666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ities.  They are located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cient Ind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Harappa and Mohenjo – Daro?  Where are they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ddharta Gauta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founded (started) Buddh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143000" y="2590920"/>
            <a:ext cx="7162920" cy="3124080"/>
          </a:xfrm>
          <a:prstGeom prst="wedgeRectCallout">
            <a:avLst>
              <a:gd name="adj1" fmla="val -21231"/>
              <a:gd name="adj2" fmla="val -2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religious song or po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Hy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Q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as the largest dynasty in Ancient Ch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notheism means you belie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one G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lytheism means you belie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more than one G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99072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difference between Monotheism and Polythe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cient A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362320" y="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ian 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572000" y="0"/>
            <a:ext cx="205740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781680" y="0"/>
            <a:ext cx="221004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x i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ction Button: Custom 29">
            <a:hlinkClick r:id="rId41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ction Button: Custom 30">
            <a:hlinkClick r:id="rId4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ction Button: Custom 31">
            <a:hlinkClick r:id="rId43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838080" y="1752480"/>
            <a:ext cx="7772400" cy="4038840"/>
          </a:xfrm>
          <a:prstGeom prst="wedgeRectCallout">
            <a:avLst>
              <a:gd name="adj1" fmla="val -22509"/>
              <a:gd name="adj2" fmla="val -15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nduism uses the Cas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4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rrio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rch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r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066680" y="304920"/>
            <a:ext cx="716292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Which religion uses the Caste System?  How many groups are there?  What are the names of the groups people are divided i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990720" y="1676520"/>
            <a:ext cx="7162560" cy="4038480"/>
          </a:xfrm>
          <a:prstGeom prst="wedgeRectCallout">
            <a:avLst>
              <a:gd name="adj1" fmla="val -21231"/>
              <a:gd name="adj2" fmla="val 73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was the trading path us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port silk from China to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ilk 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be really happy you mus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 peace with yoursel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Taoism you must be happy with WHOM to be really happ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457200" y="304920"/>
            <a:ext cx="81532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merigo BT"/>
              </a:rPr>
              <a:t>Final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merigo BT"/>
              </a:rPr>
              <a:t>Jeopardy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609480" y="228600"/>
            <a:ext cx="7696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445400" y="533520"/>
            <a:ext cx="638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What are the three possible w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the Harrappan Civ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may have e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Does anybody know what really happe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66680" y="2895480"/>
            <a:ext cx="7031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up all of their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ders killed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NE KNOWS what REALLY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114300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us River Valley – 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uang Ho Valley - 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219320" y="228600"/>
            <a:ext cx="708660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untry did the Indus River Valley civilization develop in?  What country did the Huang Ho Valley Civilization develop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the system that div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ocial classes in the Hindu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ig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Caste Sys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your soul lives a new li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pending on your behavior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y be better or worse than y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fe befo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04920" y="380880"/>
            <a:ext cx="8381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Reinca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2743200"/>
            <a:ext cx="7162920" cy="2743200"/>
          </a:xfrm>
          <a:prstGeom prst="wedgeRectCallout">
            <a:avLst>
              <a:gd name="adj1" fmla="val -21231"/>
              <a:gd name="adj2" fmla="val -717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ter / Riv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38080" y="380880"/>
            <a:ext cx="723924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geographical feature have ALL the civilizations we have discussed develop arou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10666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as originally built as a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the Chinese to prote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mselv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day it is mainly used as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urist attra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14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066680" y="38088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as the Great Wall of China originally buil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ts MAIN use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91440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four main clas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UNTOUCHABLES.  Th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so low they are not 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idered a clas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990720" y="152280"/>
            <a:ext cx="716256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classes are there according to the Hindu religion?  And which group of people are SO LOW they are not even considered a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91440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uling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Dyna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Robin Jadick</cp:lastModifiedBy>
  <cp:lastPrinted>2007-12-17T16:01:22Z</cp:lastPrinted>
  <dcterms:modified xsi:type="dcterms:W3CDTF">2011-01-06T17:16:36Z</dcterms:modified>
  <cp:revision>75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